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B34-B202-4419-B01D-8449335D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49F-AD23-467B-A7F9-C051B5BE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AE7-0AC8-4908-9685-D6CB4351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69C-AF3C-4F55-B4CE-42CBFFA3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533-C051-4283-B5D0-726A9843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F64-A62A-444F-9BDE-CA9C6EDD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F7F-FF83-436C-B8F5-7D1D6D81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BDF-8967-4792-8656-C77914E4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92A-8991-4E9F-A9C6-6DC9D933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CFD-A447-4811-9C59-1A30EDFA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D3E-BDAF-4B39-BD9A-4925CD99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727-9C32-487F-B519-C7E4038F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75C6-A492-4159-B308-ABFED44F0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dipo_rey#El_coro" TargetMode="External"/><Relationship Id="rId2" Type="http://schemas.openxmlformats.org/officeDocument/2006/relationships/hyperlink" Target="http://es.wikipedia.org/wiki/Edipo" TargetMode="External"/><Relationship Id="rId3" Type="http://schemas.openxmlformats.org/officeDocument/2006/relationships/hyperlink" Target="http://es.wikipedia.org/wiki/Tiresias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ayo" TargetMode="External"/><Relationship Id="rId2" Type="http://schemas.openxmlformats.org/officeDocument/2006/relationships/hyperlink" Target="http://cleoppatra.com/wp-content/uploads/2007/10/templo-de-tebas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dipo_rey#Acusaciones_contra_Creont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dip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gum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nemato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7596360" y="5950080"/>
            <a:ext cx="720720" cy="431640"/>
          </a:xfrm>
          <a:prstGeom prst="rightArrow">
            <a:avLst>
              <a:gd name="adj1" fmla="val 50000"/>
              <a:gd name="adj2" fmla="val 4174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la trag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logo: Se plantea el confli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árodo: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Co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tebanos con una pleg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pisodio 1: Confrontación entre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ip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Tires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simo 1:El coro canta su desconc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pisodio 2: Se inicia la investig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simo 2: El coro medita las palabras de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ires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pisodio 3: Un mensajero trae noticias de los padres de ed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simo 3: El coro vaticina el origen de Ed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pisodio 4: El criado revela el pasado de Ed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simo 4: El coro canta a la desdicha sit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Éxodo: A través del mensajero se conoce el desen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índice de la traged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- Causa de la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arrol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- Consultas a Tires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- Implicación del protagonista y dudas sobre su -  ident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ncuentro con la ver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usa de la investigac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dipo se cree capaz de averiguar quien mato a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ay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frenar la peste que el Oráculo desencadenó en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b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042920" y="1773360"/>
            <a:ext cx="2873520" cy="4140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sultas a Tires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pués de varias consultas a Tiresias los ancianos del pueblo como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eo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 inculpan del asesinato de Layo, esto hace a Edipo dudar de su ident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51640" y="1989000"/>
            <a:ext cx="2473200" cy="4027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ción del protagonista y dudas sobre su ident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2490840" cy="4309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ipo encuentra pruebas que lo inculpan del asesinato de Layo como: El lugar de su muerte, el tiempo en el que fallecio, sus rasgos fí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uentr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po descubre que él es el asesino de Layo, que este era su padre, y que esta casado con su madre gracias a la aparición de un mensajero que confirma que Edipo fue encontrado y dado en adopción, junto a otras prueb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744720" cy="360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os referentes cinemato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erda (19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hica terrible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ja de música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ento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392280" cy="430992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468360" y="6093000"/>
            <a:ext cx="790560" cy="504720"/>
          </a:xfrm>
          <a:prstGeom prst="leftArrow">
            <a:avLst>
              <a:gd name="adj1" fmla="val 50000"/>
              <a:gd name="adj2" fmla="val 391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2:01:18Z</dcterms:created>
  <dc:creator>PC</dc:creator>
  <dc:description/>
  <dc:language>en-US</dc:language>
  <cp:lastModifiedBy>PC</cp:lastModifiedBy>
  <dcterms:modified xsi:type="dcterms:W3CDTF">2010-05-21T15:19:29Z</dcterms:modified>
  <cp:revision>13</cp:revision>
  <dc:subject/>
  <dc:title>Diapositiva 1</dc:title>
</cp:coreProperties>
</file>